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8DF9-F666-448A-8B03-173644179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AD44-1C22-49CA-99D1-C4703D58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196F-DF72-41B8-B232-A89674B1B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08BA-AB01-4998-86BE-1DBA1AF3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903A-F48D-4390-BC60-A3A502F8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93C1-DDFF-4371-B841-7B38CC3C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E94A-7259-4F0A-BE26-CA97B986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4531-F18C-4E14-A3AF-6BE95B1C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86F1-5A45-447A-915F-397576FC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86F5-968D-49E5-B8B6-E4041FB9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C8AB-B290-46B0-A80A-3B6D7CA6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8166-BB00-4CC2-9053-AE4969D9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4F02-0AA8-4610-81D7-4E98C98F1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30492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oper Black"/>
              </a:rPr>
              <a:t>Let’s Meet Marc Br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5182"/>
          <a:stretch/>
        </p:blipFill>
        <p:spPr>
          <a:xfrm>
            <a:off x="2514600" y="1219320"/>
            <a:ext cx="43639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393372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oper Black"/>
              </a:rPr>
              <a:t>D.W.  and Francine do some of the same things Marc’s three sisters did while they were growing u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562720" y="228600"/>
            <a:ext cx="2038320" cy="3733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219320" y="152280"/>
            <a:ext cx="3198600" cy="36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0"/>
            <a:ext cx="8763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oper Black"/>
              </a:rPr>
              <a:t>Marc also uses things that his three children, Tolon, Tucker, and Eliza said and did when they were little to help him come up with story ideas, to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09680" y="4191120"/>
            <a:ext cx="1676520" cy="2514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638680" y="3657600"/>
            <a:ext cx="1710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152280"/>
            <a:ext cx="8915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oper Black"/>
              </a:rPr>
              <a:t>A fun thing to do while reading Marc Brown’s picture books is to look for his children’s names hidden in the pictu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295280" y="4038480"/>
            <a:ext cx="175284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olon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62520" y="4800600"/>
            <a:ext cx="2057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liza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172200" y="2895480"/>
            <a:ext cx="16765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ucker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3520" y="4146480"/>
            <a:ext cx="8534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oper Black"/>
              </a:rPr>
              <a:t>The newest Arthur books are longer books for older children to rea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124080" y="380880"/>
            <a:ext cx="246060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2280" y="152280"/>
            <a:ext cx="8382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oper Black"/>
              </a:rPr>
              <a:t>Arthur seems to be everywhere !  He’s even in the big Macy’s Thanksgiving Day Parad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14442" r="0" b="10974"/>
          <a:stretch/>
        </p:blipFill>
        <p:spPr>
          <a:xfrm>
            <a:off x="4249800" y="2514600"/>
            <a:ext cx="3751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2280" y="4952880"/>
            <a:ext cx="883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oper Black"/>
              </a:rPr>
              <a:t>There is even a TV show about Arthur and his frien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84120" y="457200"/>
            <a:ext cx="656460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2746440"/>
            <a:ext cx="8915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oper Black"/>
              </a:rPr>
              <a:t>Marc Brown lives in </a:t>
            </a:r>
            <a:r>
              <a:rPr b="1" lang="en-US" sz="4400" spc="-1" strike="noStrike">
                <a:solidFill>
                  <a:srgbClr val="990033"/>
                </a:solidFill>
                <a:latin typeface="Cooper Black"/>
              </a:rPr>
              <a:t>Hingham, Massachusetts</a:t>
            </a:r>
            <a:r>
              <a:rPr b="1" lang="en-US" sz="4400" spc="-1" strike="noStrike">
                <a:solidFill>
                  <a:srgbClr val="660066"/>
                </a:solidFill>
                <a:latin typeface="Cooper Black"/>
              </a:rPr>
              <a:t>  and </a:t>
            </a:r>
            <a:r>
              <a:rPr b="1" lang="en-US" sz="4400" spc="-1" strike="noStrike">
                <a:solidFill>
                  <a:srgbClr val="990033"/>
                </a:solidFill>
                <a:latin typeface="Cooper Black"/>
              </a:rPr>
              <a:t>Martha’s Vineyard</a:t>
            </a:r>
            <a:r>
              <a:rPr b="1" lang="en-US" sz="4400" spc="-1" strike="noStrike">
                <a:solidFill>
                  <a:srgbClr val="660066"/>
                </a:solidFill>
                <a:latin typeface="Cooper Black"/>
              </a:rPr>
              <a:t> with his wife and daughter, Eliza.  Tolon and Tucker are all grown up and on their 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880" y="76320"/>
            <a:ext cx="4343400" cy="2711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0" t="6652" r="0" b="13572"/>
          <a:stretch/>
        </p:blipFill>
        <p:spPr>
          <a:xfrm>
            <a:off x="5105520" y="76320"/>
            <a:ext cx="3467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66680" y="53352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oper Black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81080" y="1512720"/>
            <a:ext cx="548640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0"/>
            <a:ext cx="9067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oper Black"/>
              </a:rPr>
              <a:t>Marc Brown is the author and illustrator of the famous Arthur book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95288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1647720"/>
            <a:ext cx="426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oper Black"/>
              </a:rPr>
              <a:t>Marc was born in 1946 in Erie, Pennsylvani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60840" y="380880"/>
            <a:ext cx="43545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379080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oper Black"/>
              </a:rPr>
              <a:t>When Marc was a boy growing up in Pennsylvania, his Grandma Thora told him stories.  He says she was the best storyteller ever!  Marc gave Arthur’s Grandma the same nam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0" r="0" b="15646"/>
          <a:stretch/>
        </p:blipFill>
        <p:spPr>
          <a:xfrm>
            <a:off x="3124080" y="228600"/>
            <a:ext cx="2776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228600"/>
            <a:ext cx="87627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oper Black"/>
              </a:rPr>
              <a:t>Marc began telling stories when his first child, Tolon, was born.  He loved to make up bedtime stories for him every night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105520" y="2971800"/>
            <a:ext cx="271764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1280" y="380880"/>
            <a:ext cx="53341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oper Black"/>
              </a:rPr>
              <a:t>One night the story was about an aardvark who did not like his nose, that aardvark became Arthur, and the story, </a:t>
            </a:r>
            <a:r>
              <a:rPr b="1" lang="en-US" sz="4400" spc="-1" strike="noStrike" u="sng">
                <a:solidFill>
                  <a:srgbClr val="660066"/>
                </a:solidFill>
                <a:uFillTx/>
                <a:latin typeface="Cooper Black"/>
              </a:rPr>
              <a:t>Arthur’s Nose</a:t>
            </a:r>
            <a:r>
              <a:rPr b="1" lang="en-US" sz="4400" spc="-1" strike="noStrike">
                <a:solidFill>
                  <a:srgbClr val="660066"/>
                </a:solidFill>
                <a:latin typeface="Cooper Black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7920" y="1371600"/>
            <a:ext cx="2998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152280"/>
            <a:ext cx="83822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oper Black"/>
              </a:rPr>
              <a:t>Did you notice that Arthur looked very different in that first book?  Marc changed Arthur’s look a few times over the yea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22356" t="29790" r="25256" b="14895"/>
          <a:stretch/>
        </p:blipFill>
        <p:spPr>
          <a:xfrm>
            <a:off x="457200" y="3581280"/>
            <a:ext cx="1943280" cy="2971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23194" t="38224" r="28467" b="0"/>
          <a:stretch/>
        </p:blipFill>
        <p:spPr>
          <a:xfrm>
            <a:off x="3462480" y="3581280"/>
            <a:ext cx="1795320" cy="3124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0" t="0" r="65998" b="0"/>
          <a:stretch/>
        </p:blipFill>
        <p:spPr>
          <a:xfrm>
            <a:off x="6296040" y="2895480"/>
            <a:ext cx="17906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3933720"/>
            <a:ext cx="8305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oper Black"/>
              </a:rPr>
              <a:t>Since the first book, Marc has written and illustrated over 30 books about Arthur, his family and frien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09680" y="76320"/>
            <a:ext cx="457200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3340080"/>
            <a:ext cx="8305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oper Black"/>
              </a:rPr>
              <a:t>Marc makes the characters in his books like people from his real life.  Buster is like Marc’s best friend from elementary schoo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6079" t="2235" r="49316" b="3911"/>
          <a:stretch/>
        </p:blipFill>
        <p:spPr>
          <a:xfrm>
            <a:off x="3048120" y="152280"/>
            <a:ext cx="2666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3:37:29Z</dcterms:created>
  <dc:creator>Faye Humbard</dc:creator>
  <dc:description/>
  <dc:language>en-US</dc:language>
  <cp:lastModifiedBy>Connie Campbell</cp:lastModifiedBy>
  <dcterms:modified xsi:type="dcterms:W3CDTF">2005-05-09T18:20:07Z</dcterms:modified>
  <cp:revision>28</cp:revision>
  <dc:subject/>
  <dc:title>PowerPoint Presentation</dc:title>
</cp:coreProperties>
</file>